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15124113" cy="10691813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1311-F678-4019-A4D0-3B5716A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2D19-4C03-41D4-AEAF-15615FE2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D3A6-9089-42A0-9E1C-CAE8D01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C1B9E-4CC1-416D-839D-DF1C5AD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984A-6B5C-43B2-B2D7-849BF07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7CB8-2E8D-4CB5-928D-AA27AADE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21E0-C4C3-4A67-853B-1A75AE4C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6B01-1181-448C-8C97-9AC19101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82D9-8834-4A0E-8796-4E0E936C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22FB7-A185-44C0-8353-434019EF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62C6-9BD2-4B90-81D6-EC20C73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96A1-BBE9-4573-8A58-0C7A76E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2734-B403-422C-AB2D-717AC635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664D-9C43-4908-9F02-E27105E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84451-C293-4740-9156-AF481910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58AC2-A053-46E0-B0D2-838DBF1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614F2-FB19-40A3-8A2E-80A035A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062E6-E14E-4B1F-9BEE-3C52511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CBC1C-4354-4AAB-8E38-64B2139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47C5D-93FE-4BAF-BA96-5A67C0C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B0DF-1976-4190-BA9E-366EB5C0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0679F-A7FF-4673-B185-84E47814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5656-93AE-46E6-AA17-3C20277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6C15B-6816-4A0A-8275-61EDFCDC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32E34-C1C3-4C62-8BAF-D03DB37A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2355E-8C54-4A95-9986-019CAE37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EAD36-34E7-40B1-87DD-4662ABC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C8BE-558D-4F81-9049-FAA46D46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22665-235A-4A9E-A135-A65E5CB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633D-8CF9-46D9-809D-15C95C7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C4A-4A6C-452E-8BAB-22F25A5F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8E3DF-B366-4599-8052-2EAA569D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E572C-ADE7-4322-BC90-981261C0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15141-D75E-493D-A3B9-0FAE55EC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0D1-9D57-4E88-BC3E-576E5FD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022-1790-49F7-9D8A-1FCD74DB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F61-0569-4CA1-8575-CD390914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530-748C-4BD3-B3A0-4CCF7566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CFB-E70E-448B-96AC-B50AE30B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37D-7DB2-4346-B8A5-457B83D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6E0-B0CD-414A-91F1-6EB1D9D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751-E713-4F3F-9808-2F68352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24A-9A3E-47BB-95DA-F625A0F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E87-6B70-44D9-AADE-BD024739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05C-A067-45D3-B2F5-2EFB8BE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04B2-E3C0-4629-86EA-85BF0453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BB2-4696-40D2-A32C-1E63EA5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CE48-F2B1-43C4-969B-E135CA5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F73-CF3D-4010-86FF-FE985C63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7042-5C30-45A3-BA48-5B90E93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38EF-869D-42CC-8926-EF6ECFB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155-E6A1-4F74-906F-C922853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7E8-7313-4129-A7D9-41733B6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8C5-8CB6-44AD-90FC-3A92BEC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596-C20F-4773-BCE9-1B92D74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341-7038-4A4B-BD90-F51FF80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D02-ABA7-4B8F-96F2-B798F3A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AE36-B8CF-4354-933B-C505A020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9BD6-CECD-432B-8209-F4AEABE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35E8-77AC-4A20-8533-8362281B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3989-0E33-4DD0-9D59-3A7474A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4AFA-957B-4218-91EB-AE0D17C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647C-4E78-4805-A515-16F96C0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6DA1-3F78-4A51-83CA-313D1BC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7B4E-4A0B-4E67-993B-D5C0C2B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7773-62AC-4400-9989-67A8F29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3E82-AC40-47D5-855C-C930B16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99BD-B77F-4DDC-B851-F0FC1CE1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D4F4-AF3E-4D96-A1EC-56CBE4B0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97A5-0DC0-4843-97FE-6D3820C2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DB48-FF82-4A30-8EDA-71882B1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9666-24C3-4036-BAC1-2B79EA37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379C-B57E-4CCC-845E-8919C98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3FE9-B7DB-4F82-8EFF-B6F32BC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096A-C9FD-4557-96D4-7DAA2A4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B334-DCE2-4E7A-A63D-8917E4A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BA3B-D89F-4BBF-8007-E0BB1523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6B6B-533E-4988-AFCF-04EEFB3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78F5-782A-42AF-A480-CB4F1F3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9D13-CA60-4D45-8770-65CE67C4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3489-DF97-43D5-8F0E-D9DBC62D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EC7D-D216-46F1-BAC6-688AAB8F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C350-F155-43C8-9A83-E7A6B1D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EF9C-99CB-4D17-B6FF-1CD4D22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6623-A723-4F02-966C-B8A24C5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EA22-E6BB-4574-A54D-0FCC0853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9DA7-FAE5-4BE6-8222-6DAD9F69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B4C2-9FEE-43BC-ADB5-0A223D6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3017-6ED7-45E2-A1B2-A96D535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9244-1DED-4EAF-94A2-4D2952B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6829-7327-425F-AEAC-4C342888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619A-322C-4B79-BF68-D23B57B5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A6DF-DAB5-4765-89E8-9A30AE16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9AAA-F491-452D-9777-04F39B8C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BB7E-6598-44FB-9E5A-7DD4D67F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E8CA-1085-485A-81B8-0CCF0279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C94BA-F900-40E5-AB66-E4A677E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C3AB-D4CC-454C-8D85-41AF6E6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B03E-89FC-45FA-BBDE-8A9D5CA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F278-45DA-49BE-8B19-8788A3E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97A2-B94B-456F-8E77-802FEAF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DF1C-7A9C-4A58-BAA8-3D0930A1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2BA3-2D09-46EB-A9BA-37949ECF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1258-2BC7-4700-8D1A-41D8B32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4DE7-DBA0-4924-A6EE-EF834A06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7393-3CE4-49D0-B750-05166373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655A-B472-4219-B9C7-F8EE24B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0D25F-D3F3-4997-B95A-2E168B8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6662D-96F1-44B6-B151-73DCDC5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91CF-4224-4080-B565-B815959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19C8E-7917-472A-BF87-0FF2D89C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B8FF-98E6-4B30-88A6-9BD87AA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67E0-28BA-4CFA-ABBD-3C6C45D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ADBB-BCFB-4E07-BECB-021BEB0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97D2F-95EC-4DA3-9CB9-A8A9E90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6C08-68BA-480B-B11D-C1FE2648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5B801-DD6F-4F55-B531-71622BFA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6917-468D-47E5-82FD-C2CD9A81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B9E1-B904-4BC8-BAD9-A57C0518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F937C-2D50-489A-BF2A-7FC3DF5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2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3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4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5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6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17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dt" idx="25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330-DFF4-4128-8BC4-969907C66EA0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26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27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BDC-0D27-426C-9A02-2F2AD2885A87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8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9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0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1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2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28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93AF-5621-4C68-92F3-DEBFB107E712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29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0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039-8815-43BD-910A-91F6C0D0F973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EB0-6B87-4FE0-9CBE-28B769BE8E6C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54E9-4D08-4DA5-8465-CA19BAFF4E27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0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1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2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3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4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1CA-3667-44B6-83EB-E60DCB9A5A64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86D3-89E2-4668-8A0F-2C05592AC1D1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6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7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8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9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0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dt" idx="7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EC9A-84BB-4110-965B-E0FE60854B96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8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9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251-27B3-4BE0-B8E2-3BFA60D0421A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2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3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4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5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6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8C56-B082-46EC-9426-AE80985495E6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1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2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6B45-56B7-4B29-B7AB-1CBB2E7ED5E1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8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9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0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1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2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068-D5B6-450A-B341-F88A5735BBC9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4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5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AF4-5A80-44A4-BED8-B6749078E547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4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5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6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7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8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B417-1CEB-468C-9DA9-7E67CE568EA5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A348-1AC9-4456-A88A-39B32403D92A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0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1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2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3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4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418-549E-48BD-B8DA-0AAD1CEF0CA5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782-DF59-4C12-94BA-0342A7D1181C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6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7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8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9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0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0" y="63360"/>
            <a:ext cx="15156000" cy="106124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dt" idx="22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78B7-4DD1-4C70-BD6A-17BF0D1B9982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ftr" idx="23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4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DE2-1B88-414B-9800-C7D70B81E54F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feld 7"/>
          <p:cNvSpPr/>
          <p:nvPr/>
        </p:nvSpPr>
        <p:spPr>
          <a:xfrm>
            <a:off x="3801960" y="994572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4" name="Textfeld 9"/>
          <p:cNvSpPr/>
          <p:nvPr/>
        </p:nvSpPr>
        <p:spPr>
          <a:xfrm>
            <a:off x="11393640" y="22860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</a:rPr>
              <a:t>Holzschlag „Lokalname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5" name="Textfeld 10"/>
          <p:cNvSpPr/>
          <p:nvPr/>
        </p:nvSpPr>
        <p:spPr>
          <a:xfrm>
            <a:off x="11393640" y="423720"/>
            <a:ext cx="35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</a:rPr>
              <a:t>Informationen zum Holzschlag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6" name="Textfeld 15"/>
          <p:cNvSpPr/>
          <p:nvPr/>
        </p:nvSpPr>
        <p:spPr>
          <a:xfrm>
            <a:off x="7272360" y="9945720"/>
            <a:ext cx="30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48:00Z</dcterms:created>
  <dc:creator>Etter Andreas</dc:creator>
  <dc:description/>
  <dc:language>en-US</dc:language>
  <cp:lastModifiedBy>Manuel Schnellmann - AWJF</cp:lastModifiedBy>
  <cp:lastPrinted>2014-04-15T13:49:36Z</cp:lastPrinted>
  <dcterms:modified xsi:type="dcterms:W3CDTF">2014-10-28T07:51:10Z</dcterms:modified>
  <cp:revision>14</cp:revision>
  <dc:subject/>
  <dc:title>PowerPoint-Präsentation</dc:title>
</cp:coreProperties>
</file>