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15124113" cy="10691813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72A84-22BA-4EBD-8899-82BD815E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CBAA4-56AC-4B21-96C3-0FB66761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EFF1B-2FEA-4E00-99E5-96E748A5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8A627-96F4-42FA-98DF-F63385BD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342DE-EC7B-45C3-9802-9941C4A0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8286A-FB3D-4063-8D75-D5AF065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B3C54-AFE9-4D3F-8042-020BDBBA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CAC30-24BB-4BC3-AC77-C75A16FF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7169B-AC5B-48FD-9DC0-2E00D133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C081C-56CA-44A8-A801-E73B7156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BE093-7D50-4A67-BEF2-665F72FA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56284-A534-41B9-B314-A2CF3224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42B1F-6833-498D-8E07-F862E15B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C51E9-55B8-42E5-8F1E-4989DDFD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0A6D2-433E-48C7-AB2C-3F4BAAC2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CBC5A-CBD6-4FC6-8C2C-16B5B872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B0F85-9073-4AED-B408-20A2F6A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00342-A219-4C1C-B467-26C55142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76953-0981-4B37-AD13-BB74AB8D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3EBF7-B05A-44C5-A285-904FE4F8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09610-E56A-4738-A934-D66AB584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57229-AD6B-4D9A-8F57-EE480E77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9EBEF-302C-4793-82F2-1F986DB7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EBABE-78C5-4056-B646-1B9B6872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34BAA-E72A-45A4-A7A4-0103EB7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77401-93E4-4DB9-9E27-9AAA2721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35D17-B599-4D40-B711-6609C184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392D0-B3AB-4297-832A-4E75CC8E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6EF68-DF0F-4BC7-981C-B24E8D8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1C8E0-76CB-4EAE-9657-D30C67CD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51A-13D8-4DCD-B2B5-8FCDBBB0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7D5CC-61A7-4D11-8654-43F565A9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CAAAE-6F4E-406E-883A-3C85BC83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968BC-EB4E-40E4-B268-DB392AAD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FBA-FB9E-49E7-80E5-7B1BC66B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884-5BCA-4670-95AD-222E3E1E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CCF-5AFE-4D2A-A5DE-6A810AFB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C26-1119-4110-872D-12EB0BC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4FF-45DE-4460-A2AA-F4138126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481-C88E-4B19-9664-145A09BC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A9D-1DD0-4E50-95F2-D2D0B8F2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879-30C7-470C-AC98-F17D3BAE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DCB-B9B4-4CDC-8997-49B80C35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AB1-55BB-40E4-A5AB-8145BEC6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CCB-5979-4954-9649-3A45BF96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88FD-9F94-410C-A938-566748A8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6336-0D1E-42B8-911F-FF2F9598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2643-FC7B-4925-A70C-173FAF2C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FC21-5BFB-4487-A840-BBB09DFC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6497-88FE-44A3-917D-647C0396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D1E8-1EC9-4A8B-8354-970C1D57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84F5-B5BA-4EAF-B393-055ED995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2C77-9DD8-4018-8999-582DD8FA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EF4E-E460-4A75-9817-CE48162B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5EB8-52C3-4FEA-A1AC-496F6A8B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7A6F-7468-4718-9DBE-2247D86E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BD4D-AF3E-46B7-B6BD-B9B42AC5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6EBE7-48F1-4277-A163-F051CEE9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A045-9C9A-4141-BCAE-E4FF5D45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3D3E-E44B-4D95-843A-29F7DFBD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7D17-6C42-4AC5-833A-DBBE1C28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CD38-31E4-4D8D-B3C1-50C46593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AB05-E7AD-4CEE-87DE-86DDF955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CE62-DE39-4881-BF9E-0430975A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0890-7173-4C5F-B056-967D1AA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213E-FA48-481E-B497-4C046F59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C540-7C79-49A4-A937-06A06B08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B3F5-5DDA-49D9-AEC6-5044C979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1BA4-9244-4705-855A-80C21946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4CC9-612E-4165-BD81-948E0B0F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893A-FBBC-4D57-BC7A-7A27BAE0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91F5-2761-4FEB-8AB1-47F960D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E366C-8027-4264-9413-C0643CBE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19A2-DFB6-45D8-9B56-721400E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CB48-9153-417B-9BE4-95914C75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36552-A779-4BF5-AB20-D69F6E4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0301-7757-471B-9E69-2D4B4635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A2C8-79F7-4B1B-9F8E-73E811F4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1FE26-71B5-4CE6-8319-110BB300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FB643-73B8-463E-8370-62F0A112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B015-6FE9-4915-9FB5-8988F27F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7CEE6-EBCE-4184-A37E-A1356695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5669-8FA4-45F2-9E5F-7644BB7F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4455-8EC7-432B-82FC-F121D841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5F3D7-40A0-4A01-BA1B-BBCE2EB7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C0589-921B-46D3-9E2B-CA84FE1A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7B4C3-1FF1-470C-B728-FA2CB198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ACB0A-B404-4574-8A5C-B05C0C09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FE8B7-7132-48B6-981C-97EF5BAF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8CEF3-4A61-4DFA-9DD9-B9C43E7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6405D-497D-4FFB-B5F7-0A4D47B8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DBDC-9161-4EF1-AC11-1FEB97FA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ECF28-FDD9-4DCC-B4A7-B2E93FBD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AF34-E08A-45BA-AE39-3A3AE6D4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AD636-CAA9-45BF-8A7A-17B4422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191FA-7428-458C-9B23-1C1D4141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0DAE5-BFF6-4F47-9F69-AB85A15D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EB36-F905-460C-9243-21FDE5ED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10461-CE1A-416A-AEA3-0F04028D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0406A-3EB6-40D3-BD0D-CC7392B5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7AEA2-C124-45E5-83C1-0F1013A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7C9A8-188A-4072-8504-A582ED72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EC34F-A5C6-49BD-A487-09C015C0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F69ED-0D43-45C5-BA06-26D71C97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BAE3-46F1-45C1-B72B-3A51A0A5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978BF-A9A1-40F7-AF22-B84A16FE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135B-EFC9-4245-98AE-BDFD3FBB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D119A-5F81-4A91-AB2B-E0FE2D03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F6931-B938-4F5A-B7CA-B8416A2C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E1EF-37F6-46DC-A4DA-37773800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EB3CD-3037-4792-943F-720ED40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3E8BB-B90D-4466-B46A-41019D14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605B1-2E70-43E2-BB11-6F28A96C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79BDD-C1D0-477E-B656-D7C97D98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07DF9-FE38-4473-A51C-161AA598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EE30D-86FD-4E4D-9551-76AC22C7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DB3F2-9FC6-44B1-AB41-8E44CCBC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002D8-03F4-4497-AD04-8B3F6D87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E436E-A9FF-4153-AC23-BD55D65A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1FAF1-1127-4432-AD37-A5D8B492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2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3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4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5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6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17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dt" idx="25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266B-24E3-49BF-AE65-2C097634321F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ftr" idx="26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27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5CA-1F30-4A8E-84AE-22919FAF4B04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8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9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0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1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2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63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28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E7A8-9C32-414D-BD44-DBAFE64A5537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29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0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0F3F-5E39-49A2-8D79-2F4924121817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4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5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6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7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48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D598-5C8E-45B2-9121-883F6511A5E2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1482-E224-4539-BBD0-2AE3551296B6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0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1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2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3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4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4B73-579F-4629-9B93-5BC5256EB508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2E3B-DBBE-403A-9232-88159702C4D1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6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7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8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39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0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dt" idx="7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A4D-A647-429B-828C-9129045477D7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ftr" idx="8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9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99E5-8E9E-4B9B-ADE3-46F0BDDD9A1E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2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3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4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5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6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dt" idx="10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2044-9180-4F88-A736-B9D3BD9AEAC3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11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2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C696-5223-4902-BFB8-B526FE79976D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8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29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0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1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2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13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FE6F-929C-4E58-BC83-02C8D802BAF9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4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5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B3B8-B0A7-450A-B06C-FA2786679640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4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5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6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7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78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6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0BD-3868-4078-B394-F0D7F817E8C7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17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8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B492-5474-4CD2-AC86-D5A158C566DA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0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1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2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3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4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325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9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EB1-4F5C-4ACB-A987-67B804B2F873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20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1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D87C-1C8A-41A4-BA46-7BE262952E7E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feil nach oben 16"/>
          <p:cNvSpPr/>
          <p:nvPr/>
        </p:nvSpPr>
        <p:spPr>
          <a:xfrm rot="16200000">
            <a:off x="16390800" y="-1827360"/>
            <a:ext cx="2863800" cy="496872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6" name="Textfeld 2"/>
          <p:cNvSpPr/>
          <p:nvPr/>
        </p:nvSpPr>
        <p:spPr>
          <a:xfrm>
            <a:off x="16795800" y="17640"/>
            <a:ext cx="3511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Holzschlag „Buchenrain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Zur Erhaltung der Schutzwirkung wird im Zeitraum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15. April - 30. Mai 2014 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ein Holzschlag durchgeführt. 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Während der Arbeiten </a:t>
            </a:r>
            <a:r>
              <a:rPr b="1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(07:00 – 17:00 Uhr)</a:t>
            </a: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 kommt es auf der Hauptstrasse zwischen Bern und Beispielhausen zu Intervallsperrungen von max. 30‘. Das Postauto fährt planmässig. Besten Dank für Ihr Verständnis.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Frutiger LT Com 55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7" name="Pfeil nach oben 17"/>
          <p:cNvSpPr/>
          <p:nvPr/>
        </p:nvSpPr>
        <p:spPr>
          <a:xfrm>
            <a:off x="3825720" y="1090944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8" name="Pfeil nach oben 18"/>
          <p:cNvSpPr/>
          <p:nvPr/>
        </p:nvSpPr>
        <p:spPr>
          <a:xfrm>
            <a:off x="7265880" y="10933200"/>
            <a:ext cx="2160720" cy="302400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1eff0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69" name="Textfeld 19"/>
          <p:cNvSpPr/>
          <p:nvPr/>
        </p:nvSpPr>
        <p:spPr>
          <a:xfrm rot="16200000">
            <a:off x="3345840" y="1201140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0" name="Textfeld 20"/>
          <p:cNvSpPr/>
          <p:nvPr/>
        </p:nvSpPr>
        <p:spPr>
          <a:xfrm rot="16200000">
            <a:off x="6784920" y="1200600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pic>
        <p:nvPicPr>
          <p:cNvPr id="371" name="Picture 10" descr=""/>
          <p:cNvPicPr/>
          <p:nvPr/>
        </p:nvPicPr>
        <p:blipFill>
          <a:blip r:embed="rId2"/>
          <a:srcRect l="165" t="0" r="394" b="0"/>
          <a:stretch/>
        </p:blipFill>
        <p:spPr>
          <a:xfrm>
            <a:off x="222120" y="223920"/>
            <a:ext cx="14721120" cy="103503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dt" idx="22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D6EB-375F-4944-9D0D-D80B169EE79C}" type="datetime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ftr" idx="23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Thema der Präsentation</a:t>
            </a:r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24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800" spc="-1" strike="noStrike">
                <a:solidFill>
                  <a:srgbClr val="000000"/>
                </a:solidFill>
                <a:latin typeface="Frutiger LT Com 55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5F8F-B8E7-446D-A4E1-BD72ADF89635}" type="slidenum">
              <a:rPr b="0" lang="de-CH" sz="1800" spc="-1" strike="noStrike">
                <a:solidFill>
                  <a:srgbClr val="000000"/>
                </a:solidFill>
                <a:latin typeface="Frutiger LT Com 55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feld 7"/>
          <p:cNvSpPr/>
          <p:nvPr/>
        </p:nvSpPr>
        <p:spPr>
          <a:xfrm>
            <a:off x="3792600" y="995508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Forstbetrieb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22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032 589 85 85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4" name="Textfeld 9"/>
          <p:cNvSpPr/>
          <p:nvPr/>
        </p:nvSpPr>
        <p:spPr>
          <a:xfrm>
            <a:off x="11387160" y="281160"/>
            <a:ext cx="352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Frutiger LT Com 55 Roman"/>
              </a:rPr>
              <a:t>Holzschlag „Lokalname“</a:t>
            </a:r>
            <a:endParaRPr b="0" lang="en-US" sz="12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5" name="Textfeld 10"/>
          <p:cNvSpPr/>
          <p:nvPr/>
        </p:nvSpPr>
        <p:spPr>
          <a:xfrm>
            <a:off x="11387160" y="480960"/>
            <a:ext cx="352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55 Roman"/>
              </a:rPr>
              <a:t>Informationen zum Holzschlag</a:t>
            </a:r>
            <a:endParaRPr b="0" lang="en-US" sz="1000" spc="-1" strike="noStrike">
              <a:solidFill>
                <a:srgbClr val="000000"/>
              </a:solidFill>
              <a:latin typeface="Frutiger LT Com 55 Roman"/>
            </a:endParaRPr>
          </a:p>
        </p:txBody>
      </p:sp>
      <p:sp>
        <p:nvSpPr>
          <p:cNvPr id="506" name="Textfeld 15"/>
          <p:cNvSpPr/>
          <p:nvPr/>
        </p:nvSpPr>
        <p:spPr>
          <a:xfrm>
            <a:off x="7265880" y="99550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Einwohnergemeinde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Beispielstrasse 89, 7390 Beispielhausen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 LT Com 55 Roman"/>
              </a:rPr>
              <a:t>www.beispielhausen.ch</a:t>
            </a:r>
            <a:endParaRPr b="0" lang="en-US" sz="800" spc="-1" strike="noStrike">
              <a:solidFill>
                <a:srgbClr val="000000"/>
              </a:solidFill>
              <a:latin typeface="Frutiger LT Com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1:48:00Z</dcterms:created>
  <dc:creator>Etter Andreas</dc:creator>
  <dc:description/>
  <dc:language>en-US</dc:language>
  <cp:lastModifiedBy>Etter Andreas</cp:lastModifiedBy>
  <cp:lastPrinted>2014-04-15T13:42:21Z</cp:lastPrinted>
  <dcterms:modified xsi:type="dcterms:W3CDTF">2014-04-15T13:52:00Z</dcterms:modified>
  <cp:revision>19</cp:revision>
  <dc:subject/>
  <dc:title>PowerPoint-Präsentation</dc:title>
</cp:coreProperties>
</file>