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</p:sldIdLst>
  <p:sldSz cx="15124113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4EF66-C905-4441-B8E7-12138C30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5E547-40F8-4017-B716-AC17B086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7B9DA-4BD8-4BC8-BA91-C2074BD6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86382-5946-4F7D-B4B4-BB8FF0CA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61192-78E6-4A31-9A73-C88748E0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B2706-A891-4B7F-B9A0-E7359E64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7F0F2-E65D-463D-AC97-969D72B9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61513-85BA-40E8-A8A2-FE0AB1AB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38A6D-B30A-4392-A902-0F5F1508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CE911-0A15-4C97-BEB0-C1560954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3B91E-C109-4FE2-B5E3-0810F400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6988B-89C6-4D83-8C55-F89A8158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E9825-8E86-463E-8A65-10BACEFE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B1B6F-788B-496D-BCC2-47D195EF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718DB-7EE6-4251-8A71-EDCB8436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6ECEB-5083-4383-A693-81780691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E3EA4-0103-49AA-BE28-37C17DA7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BC7DE-A12E-451F-8B46-02346E69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F0256-783C-44D6-A760-116A7936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8CEE1-ED2C-4E0E-8EDA-84F4F1A5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FD7FF-0A0F-45FA-9388-D9D557EA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90DCB-6305-4D9F-8675-EBC6A56D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49776-4BEA-4A69-9EE5-956D3155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F626A-2822-4967-833E-430E5559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096CF-9613-4721-B213-F28E53E0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A799F-51C0-4CEE-86D4-843CEBAA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482C4-6281-43B1-85F5-11B631D7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A40F8-8CBE-4777-9740-36CA48B3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90F9A-BE78-49AD-8D62-B9A15EEA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BFC55-1888-4565-8040-453A8E48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A513-75F8-447A-87FF-5D145144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5E11D-1BBF-415E-9701-4EB8014F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6C906-4643-487B-AD08-7F54DD46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5A590-B1EE-4971-A880-AE626775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2DB-A450-45A3-889C-6FE05E05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303-CE1E-4260-8923-B5042F16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385-C5E1-46FE-80E0-5AC94E4D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42DC-6D8D-4A86-BCD5-6546DCB3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8F65-E342-41D5-B5E1-6D8C0F6F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37C-56BE-456B-ADCD-B01E773D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924-96EA-407F-B2F4-4615DD5D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F038-973F-4832-869D-01527492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81A-7950-4AAD-823F-C3DEAE54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72C-D2E8-41F2-91B0-722BE29A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A81C-ECBC-481E-8746-7D224D4A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912F-01C0-4EA8-A504-7DF99EB7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76B6-A699-4223-B6D3-AEE8655B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2D42-E939-4D89-B01B-5B6D9465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831F-484A-4D32-84E3-402DDE0A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7E46-9397-4487-BD68-C6910D7E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D5F8-E2B4-4557-A2C0-8641F876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D909-6282-4B24-9B26-D85C03B8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9923-86FE-4CDC-9E22-DB1F50DD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E109-0656-4D2E-B6EE-05A8FED2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08F7-3B29-425F-96BE-6C4427BB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3499-9D93-450D-8C71-0736BEE0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6689-E77F-46CF-A2AA-AD7B6A17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18F5C-AE8C-4506-A11C-FD70501C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D7B2D-88B1-43FA-9257-FD1F3E4A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9E9BB-24ED-4C62-818C-AD5E1425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3DEA7-332C-4928-A9A1-3C1F42D4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B5107-8211-4C9B-9322-50125CDF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8B39F-6C94-48A6-8271-48C72335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07696-9296-4553-9B1E-8FA495E6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637EB-B2C9-4431-AD8C-921424A6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71214-071D-4355-8A65-DF24992D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28346-5E8A-40E8-84EB-53EE01AB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E7480-A5BA-49D5-B3DE-B82268C9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9CBF1-EE05-44DC-8757-E749CCE6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F57FD-6214-45B9-8A0A-4CE60F35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69741-1E62-4CE0-827A-3151B57B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C17A0-7B8A-4C44-8C6F-A1FD3B6E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0FD7A-A048-4CD9-89E0-16E33701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F2135-81F7-45B7-98F0-E987983E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CB3F0-F934-45C6-8A1D-E18CA5FB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BB2A5-DA84-4831-B2A0-C8A67634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5EA71-5AED-46F5-AA6D-80962720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17664-E95A-4F91-A2BD-C0C6E310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B4DB2-71E6-4CD9-A5C1-347A0587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F5D7F-36BE-4619-86F7-C16C56F9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80CED-9C92-415C-AC11-22A81382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F2A03-89AD-4A4F-8C34-5F32B41F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D87C5-4AAB-4EEA-BB4B-2455CCD2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6EC7B-FE78-469E-86A4-C59FDA20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B070D-8286-44EC-BC1C-7966D252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EE76F-0D0D-4EDD-B8FD-87401993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4B57F-C487-4E62-871F-D67C84C2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41249-8A13-4DD1-B16A-56E68A3F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8EBB8-33C5-4499-A7A6-CDCFD6CA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7961E-A219-438E-B048-6218928D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0F18A-7DCD-4F2C-9868-4E9DF33C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D0500-7873-4792-B28B-2E33A971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52E15-7A23-482A-AE30-5090AB2F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8A61B-0842-4EC6-8F32-85C42911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F3874-5FC2-4D77-B3D1-7BD9250D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7B26E-963D-4F49-9794-6C71FF9A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8CC13-4F9E-4E20-B50F-E25D576A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AAEBD-5F92-40A3-9165-B2714C4D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0394B-8EFF-49A6-A794-C3B300BB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AB18F-825A-485A-A58D-C65A7FCD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18590-56F8-4AF7-AD94-66F5320B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C02FB-2A01-4208-83C4-386177E4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F613A-DBDE-4E89-9B6F-5C263C9A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C5941-D85E-41F6-8693-18CAEE5B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B7A51-09EF-4EC0-8A2E-26F61F0A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B48EB-DDC7-45C5-954E-A82C5A08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1A3E6-8992-4781-99B3-A7AF2336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AE38E-9915-4CA9-B8BE-7F9F135B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7D277-FCCE-4EA8-AF38-4931918D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05550-E1C6-4753-9312-0B053093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6B1DA-ABEC-4EEC-85F1-5E11266E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0C909-79C2-4462-AB64-E61F277E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C572A-671D-4C73-B165-A894829F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04259-2777-4CEA-BFAE-C7EACECF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DBB2F-4933-4E2B-B5A0-956A3661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6FC6F-AC3C-41D9-A32B-31FC2A95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F8E2D-AD68-4460-8A19-5D670157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895EB-6C9C-4B98-A7DB-F0A789A7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7F467-6CE9-41C3-9CF7-AC447613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D0CF5-F5F2-49C1-B995-CC66B3D9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rcRect l="766" t="1331" r="1051" b="1556"/>
          <a:stretch/>
        </p:blipFill>
        <p:spPr>
          <a:xfrm>
            <a:off x="210960" y="233280"/>
            <a:ext cx="14729040" cy="10306080"/>
          </a:xfrm>
          <a:prstGeom prst="rect">
            <a:avLst/>
          </a:prstGeom>
          <a:ln w="0">
            <a:noFill/>
          </a:ln>
        </p:spPr>
      </p:pic>
      <p:sp>
        <p:nvSpPr>
          <p:cNvPr id="2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2"/>
          <a:srcRect l="766" t="1331" r="1051" b="1556"/>
          <a:stretch/>
        </p:blipFill>
        <p:spPr>
          <a:xfrm>
            <a:off x="210960" y="233280"/>
            <a:ext cx="14729040" cy="10306080"/>
          </a:xfrm>
          <a:prstGeom prst="rect">
            <a:avLst/>
          </a:prstGeom>
          <a:ln w="0">
            <a:noFill/>
          </a:ln>
        </p:spPr>
      </p:pic>
      <p:sp>
        <p:nvSpPr>
          <p:cNvPr id="413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4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5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6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7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dt" idx="25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3D82-CF69-4A09-82C8-F22118E40B0C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ftr" idx="26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27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8F85-84AE-4E06-9D50-01AC4C5AE255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2"/>
          <a:srcRect l="766" t="1331" r="1051" b="1556"/>
          <a:stretch/>
        </p:blipFill>
        <p:spPr>
          <a:xfrm>
            <a:off x="210960" y="233280"/>
            <a:ext cx="14729040" cy="10306080"/>
          </a:xfrm>
          <a:prstGeom prst="rect">
            <a:avLst/>
          </a:prstGeom>
          <a:ln w="0">
            <a:noFill/>
          </a:ln>
        </p:spPr>
      </p:pic>
      <p:sp>
        <p:nvSpPr>
          <p:cNvPr id="459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0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1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2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3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28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BC37-FDB4-47D1-9ADD-7A121F65AC19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29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0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3410-BBB2-4574-BB16-1EDE25872D35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rcRect l="766" t="1331" r="1051" b="1556"/>
          <a:stretch/>
        </p:blipFill>
        <p:spPr>
          <a:xfrm>
            <a:off x="210960" y="233280"/>
            <a:ext cx="14729040" cy="10306080"/>
          </a:xfrm>
          <a:prstGeom prst="rect">
            <a:avLst/>
          </a:prstGeom>
          <a:ln w="0">
            <a:noFill/>
          </a:ln>
        </p:spPr>
      </p:pic>
      <p:sp>
        <p:nvSpPr>
          <p:cNvPr id="45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7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1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27EE-34D7-4A5E-AB46-923D71B89FE5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6212-330D-48ED-855E-7F7FF8420641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rcRect l="766" t="1331" r="1051" b="1556"/>
          <a:stretch/>
        </p:blipFill>
        <p:spPr>
          <a:xfrm>
            <a:off x="210960" y="233280"/>
            <a:ext cx="14729040" cy="10306080"/>
          </a:xfrm>
          <a:prstGeom prst="rect">
            <a:avLst/>
          </a:prstGeom>
          <a:ln w="0">
            <a:noFill/>
          </a:ln>
        </p:spPr>
      </p:pic>
      <p:sp>
        <p:nvSpPr>
          <p:cNvPr id="91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2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3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4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5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dt" idx="4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104C-7BD2-4FFD-B447-D848EB19C2CB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5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6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1281-0DF8-4B1B-9FC3-38159DD92E42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rcRect l="766" t="1331" r="1051" b="1556"/>
          <a:stretch/>
        </p:blipFill>
        <p:spPr>
          <a:xfrm>
            <a:off x="210960" y="233280"/>
            <a:ext cx="14729040" cy="10306080"/>
          </a:xfrm>
          <a:prstGeom prst="rect">
            <a:avLst/>
          </a:prstGeom>
          <a:ln w="0">
            <a:noFill/>
          </a:ln>
        </p:spPr>
      </p:pic>
      <p:sp>
        <p:nvSpPr>
          <p:cNvPr id="137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8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9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40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41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dt" idx="7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8701-65A3-4F5B-AA0D-955196FA2A8A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ftr" idx="8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9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CCD8-8511-4C64-8874-A71C686E6659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2"/>
          <a:srcRect l="766" t="1331" r="1051" b="1556"/>
          <a:stretch/>
        </p:blipFill>
        <p:spPr>
          <a:xfrm>
            <a:off x="210960" y="233280"/>
            <a:ext cx="14729040" cy="10306080"/>
          </a:xfrm>
          <a:prstGeom prst="rect">
            <a:avLst/>
          </a:prstGeom>
          <a:ln w="0">
            <a:noFill/>
          </a:ln>
        </p:spPr>
      </p:pic>
      <p:sp>
        <p:nvSpPr>
          <p:cNvPr id="183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4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5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6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7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dt" idx="10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D6CD-1C1F-4B3F-8A9B-B963342B328A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ftr" idx="11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12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3F5D-731A-43C5-B402-DDF738ACFA7E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2"/>
          <a:srcRect l="766" t="1331" r="1051" b="1556"/>
          <a:stretch/>
        </p:blipFill>
        <p:spPr>
          <a:xfrm>
            <a:off x="210960" y="233280"/>
            <a:ext cx="14729040" cy="10306080"/>
          </a:xfrm>
          <a:prstGeom prst="rect">
            <a:avLst/>
          </a:prstGeom>
          <a:ln w="0">
            <a:noFill/>
          </a:ln>
        </p:spPr>
      </p:pic>
      <p:sp>
        <p:nvSpPr>
          <p:cNvPr id="229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0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1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2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3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dt" idx="13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104E-D556-4DE2-84D4-297A167C5DCE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14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5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DBCD-B519-4A73-829F-2F8FC1F6042C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rcRect l="766" t="1331" r="1051" b="1556"/>
          <a:stretch/>
        </p:blipFill>
        <p:spPr>
          <a:xfrm>
            <a:off x="210960" y="233280"/>
            <a:ext cx="14729040" cy="10306080"/>
          </a:xfrm>
          <a:prstGeom prst="rect">
            <a:avLst/>
          </a:prstGeom>
          <a:ln w="0">
            <a:noFill/>
          </a:ln>
        </p:spPr>
      </p:pic>
      <p:sp>
        <p:nvSpPr>
          <p:cNvPr id="275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6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7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8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9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dt" idx="16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C193-54A4-40CE-A825-3E797905B2B1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17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18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7F3C-FE8B-4FED-9A65-8E9D8A27CDE1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2"/>
          <a:srcRect l="766" t="1331" r="1051" b="1556"/>
          <a:stretch/>
        </p:blipFill>
        <p:spPr>
          <a:xfrm>
            <a:off x="210960" y="233280"/>
            <a:ext cx="14729040" cy="10306080"/>
          </a:xfrm>
          <a:prstGeom prst="rect">
            <a:avLst/>
          </a:prstGeom>
          <a:ln w="0">
            <a:noFill/>
          </a:ln>
        </p:spPr>
      </p:pic>
      <p:sp>
        <p:nvSpPr>
          <p:cNvPr id="321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2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3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4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5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dt" idx="19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62A3-88C6-40AD-8512-8410E55C19EF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20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21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D0EE-D500-4FF7-B9B1-28B60456DF22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2"/>
          <a:srcRect l="766" t="1331" r="1051" b="1556"/>
          <a:stretch/>
        </p:blipFill>
        <p:spPr>
          <a:xfrm>
            <a:off x="210960" y="233280"/>
            <a:ext cx="14729040" cy="10306080"/>
          </a:xfrm>
          <a:prstGeom prst="rect">
            <a:avLst/>
          </a:prstGeom>
          <a:ln w="0">
            <a:noFill/>
          </a:ln>
        </p:spPr>
      </p:pic>
      <p:sp>
        <p:nvSpPr>
          <p:cNvPr id="367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8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9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70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71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dt" idx="22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FE53-0E3E-46EA-B23C-25220C375A4C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ftr" idx="23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sldNum" idx="24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A6E7-AF48-46CF-A8F4-44F6A41C860E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feld 7"/>
          <p:cNvSpPr/>
          <p:nvPr/>
        </p:nvSpPr>
        <p:spPr>
          <a:xfrm>
            <a:off x="3790800" y="995508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04" name="Textfeld 9"/>
          <p:cNvSpPr/>
          <p:nvPr/>
        </p:nvSpPr>
        <p:spPr>
          <a:xfrm>
            <a:off x="11391840" y="250920"/>
            <a:ext cx="35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</a:rPr>
              <a:t>Holzschlag „Lokalname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05" name="Textfeld 10"/>
          <p:cNvSpPr/>
          <p:nvPr/>
        </p:nvSpPr>
        <p:spPr>
          <a:xfrm>
            <a:off x="11391840" y="457200"/>
            <a:ext cx="3514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</a:rPr>
              <a:t>Informationen zum Holzschlag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06" name="Textfeld 15"/>
          <p:cNvSpPr/>
          <p:nvPr/>
        </p:nvSpPr>
        <p:spPr>
          <a:xfrm>
            <a:off x="7267680" y="9955080"/>
            <a:ext cx="30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1:48:00Z</dcterms:created>
  <dc:creator>Etter Andreas</dc:creator>
  <dc:description/>
  <dc:language>en-US</dc:language>
  <cp:lastModifiedBy>Etter Andreas</cp:lastModifiedBy>
  <dcterms:modified xsi:type="dcterms:W3CDTF">2014-04-15T14:00:05Z</dcterms:modified>
  <cp:revision>11</cp:revision>
  <dc:subject/>
  <dc:title>PowerPoint-Präsentation</dc:title>
</cp:coreProperties>
</file>